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5E2-5E30-43CA-B766-6589B937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3C6-8B05-4BF9-AD5B-96C0798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6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348-FE39-4552-9F3D-35A6A54E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1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4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1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4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304-6DC2-42F7-94B5-4597E2A1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566-1ABC-48E5-827E-BAC05FE9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6BE-AB89-4151-B59B-3F85E09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051-861A-4691-AEA7-58EAEF79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AEF-AD98-4E75-B761-01276450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17A-5765-4369-8DB4-A45A45BC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CAB-CED0-4C90-8B2B-43D04B19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65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BAB-68F4-45FA-B844-D0332A7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65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97F-A6C2-4643-8BC0-FD4FA22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AEEC-C4AB-4C99-8285-7738923BF8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hurch@att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ultilingual.com/FMPro?-db=back%20issues&amp;-lay=CGI&amp;-token=now&amp;-format=ourPublication/currentIssue.htm&amp;-sortfield=Magazine&amp;-sortorder=descending&amp;-max=1&amp;-fin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D:/TTS.mov" TargetMode="External"/><Relationship Id="rId2" Type="http://schemas.openxmlformats.org/officeDocument/2006/relationships/hyperlink" Target="file:///D:/NetTalk.mov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lsnet.org/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labs1.google.com/sets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google.com/search?hl=en&amp;q=Cat" TargetMode="External"/><Relationship Id="rId2" Type="http://schemas.openxmlformats.org/officeDocument/2006/relationships/hyperlink" Target="http://www.google.com/search?hl=en&amp;q=more" TargetMode="External"/><Relationship Id="rId3" Type="http://schemas.openxmlformats.org/officeDocument/2006/relationships/hyperlink" Target="http://www.google.com/search?hl=en&amp;q=England" TargetMode="External"/><Relationship Id="rId4" Type="http://schemas.openxmlformats.org/officeDocument/2006/relationships/hyperlink" Target="http://www.google.com/search?hl=en&amp;q=Japan" TargetMode="External"/><Relationship Id="rId5" Type="http://schemas.openxmlformats.org/officeDocument/2006/relationships/hyperlink" Target="http://www.google.com/search?hl=en&amp;q=Dog" TargetMode="External"/><Relationship Id="rId6" Type="http://schemas.openxmlformats.org/officeDocument/2006/relationships/hyperlink" Target="http://www.google.com/search?hl=en&amp;q=cat" TargetMode="External"/><Relationship Id="rId7" Type="http://schemas.openxmlformats.org/officeDocument/2006/relationships/hyperlink" Target="http://www.google.com/search?hl=en&amp;q=France" TargetMode="External"/><Relationship Id="rId8" Type="http://schemas.openxmlformats.org/officeDocument/2006/relationships/hyperlink" Target="http://www.google.com/search?hl=en&amp;q=China" TargetMode="External"/><Relationship Id="rId9" Type="http://schemas.openxmlformats.org/officeDocument/2006/relationships/hyperlink" Target="http://www.google.com/search?hl=en&amp;q=Horse" TargetMode="External"/><Relationship Id="rId10" Type="http://schemas.openxmlformats.org/officeDocument/2006/relationships/hyperlink" Target="http://www.google.com/search?hl=en&amp;q=ls" TargetMode="External"/><Relationship Id="rId11" Type="http://schemas.openxmlformats.org/officeDocument/2006/relationships/hyperlink" Target="http://www.google.com/search?hl=en&amp;q=Germany" TargetMode="External"/><Relationship Id="rId12" Type="http://schemas.openxmlformats.org/officeDocument/2006/relationships/hyperlink" Target="http://www.google.com/search?hl=en&amp;q=India" TargetMode="External"/><Relationship Id="rId13" Type="http://schemas.openxmlformats.org/officeDocument/2006/relationships/hyperlink" Target="http://www.google.com/search?hl=en&amp;q=Fish" TargetMode="External"/><Relationship Id="rId14" Type="http://schemas.openxmlformats.org/officeDocument/2006/relationships/hyperlink" Target="http://www.google.com/search?hl=en&amp;q=rm" TargetMode="External"/><Relationship Id="rId15" Type="http://schemas.openxmlformats.org/officeDocument/2006/relationships/hyperlink" Target="http://www.google.com/search?hl=en&amp;q=Italy" TargetMode="External"/><Relationship Id="rId16" Type="http://schemas.openxmlformats.org/officeDocument/2006/relationships/hyperlink" Target="http://www.google.com/search?hl=en&amp;q=Indonesia" TargetMode="External"/><Relationship Id="rId17" Type="http://schemas.openxmlformats.org/officeDocument/2006/relationships/hyperlink" Target="http://www.google.com/search?hl=en&amp;q=Bird" TargetMode="External"/><Relationship Id="rId18" Type="http://schemas.openxmlformats.org/officeDocument/2006/relationships/hyperlink" Target="http://www.google.com/search?hl=en&amp;q=mv" TargetMode="External"/><Relationship Id="rId19" Type="http://schemas.openxmlformats.org/officeDocument/2006/relationships/hyperlink" Target="http://www.google.com/search?hl=en&amp;q=Ireland" TargetMode="External"/><Relationship Id="rId20" Type="http://schemas.openxmlformats.org/officeDocument/2006/relationships/hyperlink" Target="http://www.google.com/search?hl=en&amp;q=Malaysia" TargetMode="External"/><Relationship Id="rId21" Type="http://schemas.openxmlformats.org/officeDocument/2006/relationships/hyperlink" Target="http://www.google.com/search?hl=en&amp;q=Rabbit" TargetMode="External"/><Relationship Id="rId22" Type="http://schemas.openxmlformats.org/officeDocument/2006/relationships/hyperlink" Target="http://www.google.com/search?hl=en&amp;q=cd" TargetMode="External"/><Relationship Id="rId23" Type="http://schemas.openxmlformats.org/officeDocument/2006/relationships/hyperlink" Target="http://www.google.com/search?hl=en&amp;q=Spain" TargetMode="External"/><Relationship Id="rId24" Type="http://schemas.openxmlformats.org/officeDocument/2006/relationships/hyperlink" Target="http://www.google.com/search?hl=en&amp;q=Korea" TargetMode="External"/><Relationship Id="rId25" Type="http://schemas.openxmlformats.org/officeDocument/2006/relationships/hyperlink" Target="http://www.google.com/search?hl=en&amp;q=Cattle" TargetMode="External"/><Relationship Id="rId26" Type="http://schemas.openxmlformats.org/officeDocument/2006/relationships/hyperlink" Target="http://www.google.com/search?hl=en&amp;q=cp" TargetMode="External"/><Relationship Id="rId27" Type="http://schemas.openxmlformats.org/officeDocument/2006/relationships/hyperlink" Target="http://www.google.com/search?hl=en&amp;q=Scotland" TargetMode="External"/><Relationship Id="rId2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lexisnexis.com/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:/MT1950.mov" TargetMode="External"/><Relationship Id="rId2" Type="http://schemas.openxmlformats.org/officeDocument/2006/relationships/hyperlink" Target="file:///D:/RWS.mov" TargetMode="External"/><Relationship Id="rId3" Type="http://schemas.openxmlformats.org/officeDocument/2006/relationships/hyperlink" Target="file:///D:/Apple.mov" TargetMode="External"/><Relationship Id="rId4" Type="http://schemas.openxmlformats.org/officeDocument/2006/relationships/hyperlink" Target="file:///D:/IVR.mov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piricism from TMI-1992 to AMTA-2002 to AMTA-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IBM Models 1-5 fail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ll the world’s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th W.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Labs-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urch@at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ne Soup Debat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d-1990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-style MT is obnox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ll been done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 soup: they’ve been adding intuition to thei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n’t work (Systran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ran is also better than Pang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n’t about empiricism, evalu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tin Kay’s advice about deb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msky used this argument against Shann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part of speech case, the ceiling was broken with s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data (lots of Canadian Hansards, but not much e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hear this argument so much any mo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ture: Hybrid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8A0-B5A0-46A2-9A5A-A83BAB529E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ybrid/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rick will get the las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rom his abstract, it looks like he’s going to tell us that I was right all a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just in case he does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ay it now: I told you s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C61-6833-4928-AAA1-491D5A0538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11B-79A6-4C25-AA11-1BC8CB7DD4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y’s Workstation (1980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Place of Men and Machines in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lator’s [workstation] will not run before it can w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be called on only for that for which its masters have learned to tru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not require constant infusions of ne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ices that only expensive vendors can su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framework that will gracefully accommodate the future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linguistics and computer science are able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y it will be built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very modesty assures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o be hoped that it will be built with taste by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understand languages and computers well enough to know how little it is that they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0D0-A7B9-4B15-9F6C-A6B9F2F54D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WARC: Canadian Workplace Automation Research Center (19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 to the Termium terminology database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Rite (a diff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Search (a concordance t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ury/Termex (termi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omm (remote access to data banks via telephone mod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e Memoire (French verb infle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Bridge (tool for converting word processing files from one commercial format into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990-903D-48BC-918A-277D303BA5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set reasonabl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make sense econo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attractive to the intende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exploit the strengths of th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ot compete with the strengths of the 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be clear to the users what the system can and cannot do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encourage the field to move forward toward a sensible long-term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F24-8FE0-4611-9CE2-6AB88A9921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: MultiLingual 13: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rade Magazine for Trans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58200" cy="5075280"/>
        </p:xfrm>
        <a:graphic>
          <a:graphicData uri="http://schemas.openxmlformats.org/drawingml/2006/table">
            <a:tbl>
              <a:tblPr/>
              <a:tblGrid>
                <a:gridCol w="890640"/>
                <a:gridCol w="4356000"/>
                <a:gridCol w="1123920"/>
                <a:gridCol w="1000080"/>
                <a:gridCol w="108756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 of 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Organ-i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S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s: Reverso Pro 5, Revers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offer useful new 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Remote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 Management: Systems for Managing Content Transform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ing Tools Used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Loc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With Machine Trans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ng Translation Tools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Creation (CMU → Déjà V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ok At Two Web Translation Port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ng Global With Lingo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668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FBC-0C1B-4A16-80A8-22AB71CDE7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4724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Lingual 13:6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Positive on Tool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9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Remote Memory (p. 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of translation memory, workflow &amp; distributed work centers (work at h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re’s Law: large revenu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etter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on to your seats, translators and agencies, our industry is about to change again…  Forecast shakeup: extre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Tools Used in Software Localization (p. 31): A Consumer Reports-lik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pposition: tools are ready for wide-spread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, I am told that there are people out there for whom price does matter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A Conference (~1990): the translator and the MT sale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9040" t="11787" r="21727" b="2351"/>
          <a:stretch/>
        </p:blipFill>
        <p:spPr>
          <a:xfrm>
            <a:off x="5105520" y="0"/>
            <a:ext cx="4038480" cy="56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1C5-68F1-4384-B6EC-CF02FFDFC1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Lingual 13:6 is mostly positive on technology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Machine Translation (p. 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hough the formatting of the source text is extremely simple, the machine translation output requires a lot of painstaking post-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m reality: mark-up is more valuable than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rdict is unani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ranslators, who have gained a lot of experience of EU topics, prefer to work without Sys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k at Two Web Translation Portals (p. 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irst I thought it was a machine translation site..., but soon discovered that it was not one of those “free translation”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00600" y="1630440"/>
            <a:ext cx="4038480" cy="212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44880" y="3938760"/>
            <a:ext cx="394812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033160" y="6324480"/>
            <a:ext cx="1706400" cy="398880"/>
          </a:xfrm>
          <a:prstGeom prst="wedgeRectCallout">
            <a:avLst>
              <a:gd name="adj1" fmla="val 18592"/>
              <a:gd name="adj2" fmla="val -88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0.25/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A88-C0BF-43A0-AAA7-81A7F4C86D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hine Translation + Post-Editing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 History of Mixed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usson-Murray (1985, p. 180): Although you can expect to at lea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ranslator’s output, the real cost-saving in MT likes in complete electronic transfer of information and the integration into a fully electronic publish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son (1984, p. 6): Substantial rises in translations output, by as much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5 per 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ne case, are being reported by users of the Logos machine translation (MT) system after only a few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ira (1985): For one type of text (data description manuals), we observed an increase in throughput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 per c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91E-C815-47BD-82EE-A2658BE3A0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ers asked 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's changed since TMI-92 (if anything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MI-92: great excitement over the use of aligned parallel corpora to help human translators (translation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so, much controversy over IBM Models 1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 what's happened since 199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ism has come of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books: Charniak, Jelinek, Manning &amp; Schultze, Jurafsky &amp; Mar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book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urses in many universities around th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used to be considered radical is now accept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is practically required for pub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er’s fighting word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More data is better da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n’t as shocking when Brill makes the case a decade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ew field of Machine Learning has absorbed many good (and formally controversial) ideas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BM Models 1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rowsky's Word Sense Disambig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w out of Machine Transl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is now widely cited in Machine Learning as an early example of co-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4B-73DE-479F-9A7E-CCB34EC065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ly, automation (MT + Post-editing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ore expensive than manual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klovitch (1991, p. 3): The HT production chain was significantly faster than the MT production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 (1980): Proper Place of Men and Machines in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PAC (1966, p. 19): The postedited translation took slightly longer to do and was more expensive than conventional human translation…  Dr. J. C. R. Licklider of IBM and Dr. Paul Garvin of Bunker-Ramo said they would not advise their companies to establish such a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bility g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o little consistency?  200%?  75%?  30%?  0%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haven’t these products done better in the marketpl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ols argument (terminology and translation memories) works better with translators than post-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ors may be bi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y have considerable expertise (and 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will be easier if they believe i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69E-5A49-43B0-9247-9E41808DD5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0F2-CCD0-404D-BB9F-8C1D7547CD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has happened to the IBM-Approach to Machine Transl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human translators (MultiLingual 13: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rmi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anslators don’t need help with the easy vocabulary and the easy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nslation Mem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ranslators are often asked to translate the same material again and again (e.g., revisions of manu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R: cross-language 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earning: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st important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us-based Lexicography: spreading into lots of other fields including politics (Nunbe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217-F414-489A-8584-993488FDF8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Political Labels in Major Newspap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ffrey Nunber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ry broadcast on "Fresh Air," March 19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447920"/>
          <a:ext cx="8229600" cy="5213160"/>
        </p:xfrm>
        <a:graphic>
          <a:graphicData uri="http://schemas.openxmlformats.org/drawingml/2006/table">
            <a:tbl>
              <a:tblPr/>
              <a:tblGrid>
                <a:gridCol w="1424160"/>
                <a:gridCol w="1623960"/>
                <a:gridCol w="1523880"/>
                <a:gridCol w="2097000"/>
                <a:gridCol w="156060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stances in newspapers data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t within 7 words of relevant lab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stances in "liberal" 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t. within 7 words of label in "liberal" pap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Wellst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ney F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m Hark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d Kenne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1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bara Box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erv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sse Hel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m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hn Ashcr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ck Arm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t Lo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FD7-5C23-4C1D-ADA9-76CE1B41D7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prisingly, liberals are more likely to be labeled as such than conser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I [Nunberg] did find a big disparity in the way the press labels liberals and conserva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the direction that Goldberg cla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ontrary: the average liberal legislator has a 30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e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ihoods of being identified with a partisan label than the average conservativ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 desc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ney Frank as a liberal 2.5 times as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t describes Dick Armey as a conserv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gives Barbara Boxer a partisan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twice as often as it gives one to Trent Lo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ile it isn't surprising that the press applies the lab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Jesse Helms more often than to any other Republican in the gro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scribes Paul Wellstone as a lib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more frequently than t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D7A-F079-4312-98C3-7DB77067062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90s Revival of Empir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icism was at its peak in the 195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ting a broad set of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 from psychology (behaviori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lectrical engineering (information the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ime, it was common practice in linguistics to classify words not only by meaning but also by collocations (word associ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th: “You shall know a word by the company it kee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ocations: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on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.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Associations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e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t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rettably, interest in empiricism f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Chomsky’s criticism of ngram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ntactic Structur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95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insky and Papert’s criticism of neural networks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r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196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massive amounts of data (even before the we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data is better dat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 &gt;&gt; Quality (bal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foc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can we do with all this da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to do something than nothing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ical methods (and focus on evaluation): Speec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613-734C-4395-9846-E65B87AF4E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nnon’s: Noisy Chann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|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RGMA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|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320" y="2514600"/>
          <a:ext cx="4038480" cy="4052880"/>
        </p:xfrm>
        <a:graphic>
          <a:graphicData uri="http://schemas.openxmlformats.org/drawingml/2006/table">
            <a:tbl>
              <a:tblPr/>
              <a:tblGrid>
                <a:gridCol w="990360"/>
                <a:gridCol w="685800"/>
                <a:gridCol w="2362320"/>
              </a:tblGrid>
              <a:tr h="3373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likely alternati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will the would also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know do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s One Two A Three Pleas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 question first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 point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191120" y="2514600"/>
          <a:ext cx="4800600" cy="3321000"/>
        </p:xfrm>
        <a:graphic>
          <a:graphicData uri="http://schemas.openxmlformats.org/drawingml/2006/table">
            <a:tbl>
              <a:tblPr/>
              <a:tblGrid>
                <a:gridCol w="2168280"/>
                <a:gridCol w="1316160"/>
                <a:gridCol w="1316160"/>
              </a:tblGrid>
              <a:tr h="1143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ch 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R (Optical Character Recogn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Cor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934320" y="1295280"/>
            <a:ext cx="1143000" cy="580680"/>
          </a:xfrm>
          <a:prstGeom prst="wedgeRectCallout">
            <a:avLst>
              <a:gd name="adj1" fmla="val -47925"/>
              <a:gd name="adj2" fmla="val 80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295280"/>
            <a:ext cx="1219320" cy="580680"/>
          </a:xfrm>
          <a:prstGeom prst="wedgeRectCallout">
            <a:avLst>
              <a:gd name="adj1" fmla="val 40731"/>
              <a:gd name="adj2" fmla="val 891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412-62C7-4D1D-A0A3-6C7CE0C1C0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(Abusing) Shannon’s Noisy Channel Model: Part of Speech Tagging and Machin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ou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ing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nded Tex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Speech Tagging (PO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Trans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glis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156-C0B6-4B78-8C3E-7A5A6B2254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al 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isy Channe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RG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Mode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gram model (borrowed from speech rec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ode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ligned parallel cor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1-5: al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er &amp; Church (Computational Linguistics,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MT may fail for reasons advanced by Chom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ardless of its ultimate success or fail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growing community of researchers in corpus-based linguistics who believe it will produce valuable lexi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ingual concord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testing material for word sense disambig (sense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D75-71AB-4A4B-BA04-4E41D564D7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Sense Disambig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cquisition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-Hillel (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systems don’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-tagged text: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ex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= sense-tagge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(judicial sens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(syntactic sens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rowsky: bilingu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noling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nse per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Learning: early example of co-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801-4221-445B-A671-9B6475A866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s the pendulum swung too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ppened since TMI-1992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any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0-2000: Revival of Empir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e empirical methods become too pop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uch happened since TMI-199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orry that the pendulum has swung so far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are no longer training students for th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t the pendulum might swing the other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ought to be preparing students with a broad education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stics and 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well as Linguistic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1A3-862E-429D-9AB6-20B707FF89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-152280"/>
          <a:ext cx="8229600" cy="6705000"/>
        </p:xfrm>
        <a:graphic>
          <a:graphicData uri="http://schemas.openxmlformats.org/drawingml/2006/table">
            <a:tbl>
              <a:tblPr/>
              <a:tblGrid>
                <a:gridCol w="2057400"/>
                <a:gridCol w="2797200"/>
                <a:gridCol w="3375000"/>
              </a:tblGrid>
              <a:tr h="86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na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ric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-known advoc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msky, Mins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nnon, Skinner, Firth, Har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e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y Channe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xts of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rase-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nd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ize Prediction Error (Entrop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guistic General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ment &amp; Wh-m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ocations &amp; Word Associ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sing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le-Based, CKY (Chart), ATNs, Un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-Backward (HMMs), Inside-outside (PCF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did what to wh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sy Channel Appl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377-8F7C-4264-809F-7F040E957AF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val of Empiricism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ers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IT, I was solidly opposed to empir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at changed soon after moving to AT&amp;T Bell Labs (198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-to-Sound Rules (speech synth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: Letter stat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ymolog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nunciation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Talk: Neural Net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: great theat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realistic expect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f-organizing systems v. empiric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 Learning v. Corpus-based Lingu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did it, I did it, I did it, bu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Speech Tagging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Associations (H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info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llocations &amp; word assoc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ocations: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ong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te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.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d Association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r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ut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-Turing Smoothing (G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ing Parallel Corpora (inspired by 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Sense Disambig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ingu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noling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IBM’s approach fails for M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sting benefit (tools, linguistic resources, academic contributions to machine 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1ED-6FCE-42BF-BD92-15CCAC36F9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709-4446-4E1F-91F8-765A7807C7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is Importan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els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field is doing better and bett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used to be hard to prepare a talk for a CL aud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ause there was almost nothing that you could assume everyone kne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field will really have arrived when a course in speech and language processing is a normal part of every undergraduate and graduate Computer Science, Electronic Engineering, and Linguistics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d we're a long way from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things are improv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w have several textbooks: Manning &amp; Schutze, Jurafsky and 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quick search of the web: textbooks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urses (around the wor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were, of course, many other obsta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at limited the size of the f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used to be hard to join in on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cause only a few large industrial labs could afford to collect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nks to data collection efforts such as LDC and ELSNET and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is no longer the problem it used to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course, you can never have too much of a good th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s also used to be a problem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7E9-135A-413B-AFF8-3BD843F595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rom Theoretical Compute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is always, though,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ould do to promote our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from Theore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r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ory has paid more attention to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also worked hard 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research.att.com/~dsj/nsflis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heory community regularly exchange lists of open problems along with difficulty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s know before they solve a problem whether it is worth a conference paper or a superstar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DB7-44AE-4638-9908-946FD88AE4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: not urgent, but 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rgs (.edu, .com, .gov) work hard 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enty of examples on the w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nsf.gov/pubs/2001/nsf0104/strategy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darpa.mil/body/mission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g.lcs.mit.edu/doyle/publications/sdcr96.pd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gridforum.org/L_About/about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say why strategy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 have noticed, at least within AT&amp;T, that groups that work hard on strategy have grown and prospered over th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y is never as urgent as the next conference paper deadline, but it is probably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693-39FC-4822-A03C-AD92158BDA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documents have impac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ven if it appears that they are being igno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may or may not follow their own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ussion that produces the strategy document is extremely valuable, neverthel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more so that anything that happens after doc is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panels offer a forum for people to m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ook at the field from a broad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theory community has observed that even after the people involved in the original discussion have long since forgotten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continue to liv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broaden the best and most aggressive students for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3FB-9E25-4BBB-B427-25554BCDD9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Discussions in Our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few discussions of strategy within our fi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lsnet.org/about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dc.upenn.edu/ldc/about/ldc_intro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-nlpir.nist.gov/projects/duc/paper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EC workshops (to order proceedings, see www.lrec-conf.o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DC link developed a decade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ly responsible for the success of L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ore groups in our field put the same kind of energy into strateg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would be more success stories like the L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lightful "near miss" is Martin Kay's reflections on ICCL and C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direction for the format of Coling conferences in a “classic” Martin-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: convince Martin to write a doc in the same delightful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direction for the field rather than atmosphere for C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2BF-C670-400B-A222-9B63B6F4DA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t and Switch Strategy</a:t>
            </a:r>
            <a:br>
              <a:rPr sz="4000"/>
            </a:b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lsnet.org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t: public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sexy, available, rich hypertex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: as large as the web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larger &amp; more valuable private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Intranets &amp; telephone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i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ne cares about data that everyone can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as Groucho Marx doesn’t want to be in a club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 Use the public Intranet to develop, test and socialize new ways to extract value from large linguistic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to society: Apply solutions to private reposi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194-3374-4B8C-BFBA-62DAF7C8EC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760" y="151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Cente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lligence Bonanz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3836880" cy="6858000"/>
            <a:chOff x="0" y="0"/>
            <a:chExt cx="3836880" cy="6858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rcRect l="0" t="0" r="37737" b="666"/>
            <a:stretch/>
          </p:blipFill>
          <p:spPr>
            <a:xfrm>
              <a:off x="0" y="0"/>
              <a:ext cx="3836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0" y="0"/>
              <a:ext cx="38368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anies are collecting information with technology designed to monitor incoming calls for service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summer, Continental Airlines Inc. installed software from Witness Systems Inc. to monitor the 5,200 agents in its four reservation ce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Houston airline quickly realized that the system, which records customer phone calls and information on the responding agent's computer screen, also w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intelligence bonan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ays André Harris, reservations training and quality-assurance direc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3FF-6423-4140-A5A5-F6316480BA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iricism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ademia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mercial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iricism has not only come of age in academic venues (e.g., conferences, textboo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also in commercial 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lation tools (e.g., align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mercial practice (Tra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Applications for Crummy 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 better ap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R (cross-language information retrie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T in web search engines (Systran &amp; AltaVi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1B8-FC39-4146-9852-D3BB67AE80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it: Use Web to establis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ata is bet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cking at TMI-92 (Mercer), but less so a decade later (Br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NLP-02 best paper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ing the Web to Overcome Data Spars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r corpora (Google) &gt;&gt; smaller corpora (British National Corpus) for predicting psycholinguistic judg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ggested in the conclusions that web counts better than standard smoothing techniques (back-off) for language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lly exciting!  Performance on a broad range of computational linguistics tasks will improve as we collect more and mor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ising tide of data will lift all boa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 (AskMSR Question Answerin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can do remarkably well in TREC question answering competitions by using a search engine like Google and very little e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vig (ACL-02 invited talk): d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 is also very good at finding collocations/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abs1.google.com/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&amp; dog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 &amp; mor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ix command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e used to try to do similar things a decade ago, but the results where not as good, probably because we were working with relatively tiny corpora in the sub-billion-word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commands and many other subjects (esp taboo subjects) are over-represented on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 v. quality/corpus size v.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collecting more data better than smooth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75E-D812-4156-A95D-6C2B32EAAA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Answering &amp;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201680"/>
            <a:ext cx="7543800" cy="56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383-0112-4BE3-AB56-98FF4251303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labs1.google.com/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5011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Eng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H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F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Indon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Bi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/>
                        </a:rPr>
                        <a:t>Malay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/>
                        </a:rPr>
                        <a:t>Rab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/>
                        </a:rPr>
                        <a:t>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/>
                        </a:rPr>
                        <a:t>Ko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/>
                        </a:rPr>
                        <a:t>Ca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/>
                        </a:rPr>
                        <a:t>c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/>
                        </a:rPr>
                        <a:t>Sco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aiw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R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kd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Belg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hai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Livest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Singap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t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pw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Banglade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4A8-4379-446A-9689-BFC8827C064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arge is L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ewed Exc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, rich hypertext structure &amp; publicly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= 1000 * B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gle: 100 Bill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tish National Corpus (BNC): 100 Mill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said that the web is the largest repository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copyright laws could unlock vast quantities of data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lexisnexi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Intranets and telephone networks &gt;&gt; Public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C (trends.html): 200 million telephones in USA (1 line/p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ge: 1 hour/day/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 1 sec ≈ 1 word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 Google collections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ly, Intranets (data) ≈ telephones (vo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ata is growing faster than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ttedly, much of the data on Intranets cannot be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uch of the speech on the telephone networks cannot be recor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attitudes are chan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used to be considered rude to have a telephone answering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it is considered rude not to hav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answering machines and call centers, perhaps 10% can be recor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C2B-B04F-4638-8607-B9A5BD133A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ast, recording all this data would have been prohibitivel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Moor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osts have been falling faster than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ill continue to do so for so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t current prices, transport &gt;&gt;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distance telephone calls: $0.05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pace: $0.005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am willing to pay for a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ight as well keep the speech online for a lo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comments hold for data (web p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 am willing to pay to fetch a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might as well cache it for a lo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flush a page if there is any chance that it might be requested agai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ache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aw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find the pages that I might ask for and keep them for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is cheap (compared to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120-D78F-476F-892F-BAFE73AB65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it and Switch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up the good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considerable interest in eval on cor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more interest in how well methods port to new cor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 in how performance scales wit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fully corpus size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of course, all the data in the world will not solve all the world’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understand when more data will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hen it is better to do something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val of lingu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397-529F-4A95-B92A-137B93B6018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ait and Switch Recommend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s i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traditional data collection efforts focused on publicly available linguistic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t to think about private repositories,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: Huge impact on size of privat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king it more convenient to capture private data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monstrating that there is value in doing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most of us do not keep voice mail for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 I have been using Scanmail to copy voice mail to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ike many people, I keep a lot of email online for a lo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ools for searching email and other private repositories are not as good as the tools for searching public repositories (Goog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262-13A2-4698-9D8B-EA7516008ED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C6B-F7E0-434F-BC0C-4F326910C99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Opportunities for Tran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M (with Rau): Commercial Opportunities for N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ount garage outfits funded by gra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-500 perspective: min of $10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wo application ar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 Processing (Microsof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Retrieval (Lexis-Nexis/W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not identif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is translation market?  Huge estim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+ Billion (Eurola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ble to AT&amp;T’s revenues for consum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cos are a major employer (unlike trans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of Mark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-only (ASCII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English Sp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lingual (ISO/Uni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speakers who share a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ingual (trans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rs of spea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02920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8769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419720"/>
            <a:ext cx="32767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4724280"/>
            <a:ext cx="266724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5ED-7C73-4121-804C-E74E0F0A471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ingly Little Demand for Multi-lingual Applications: Translation &amp;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&amp;T Language Line Les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risingly, monolingual market &gt;&gt; multi-lingual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s of demand for telephone service where both parties speak the same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thought there would be even more demand for a translating tele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ause there are more pairs of people who don’t share a common language than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people don’t talk (much) to people they don’t kn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&amp;T Language Line Serv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 to speech interpretation over the phone (low tech except conf calling/work-at-ho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us a traditional writing to writing translatio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retation market: focused on emergencies: police, hospital (too small for AT&amp;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 market: focus on technical manuals (also, too small for AT&amp;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prise: interpretation market ≠ translation market; demand for language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pretation (speech to speech): depends on number of domestic spea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 (writing to writing): depends on world-wide GN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nam: Bowling Alo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idging and B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opportunities for transl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p is more valuable than trans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ktop publishing is a bette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: Adobe &gt;&gt; T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4876920"/>
            <a:ext cx="1143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32767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724280"/>
            <a:ext cx="266724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n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4648320"/>
            <a:ext cx="28195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324480" y="4648320"/>
            <a:ext cx="28195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5562720"/>
            <a:ext cx="85104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221-1E1C-4FFF-9B41-676C39113E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, what do I expect to happen over the next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cale, stu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lot of excitement about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only large and growing and se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also contains a rich structure of hypertext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propose a bait and switch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it: public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: the real target is something larger and more 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more elu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ood Apps for Crummy N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nd more time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e can do with what w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not spend all our resources on the cor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is a lot to a killer a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technology helps, but there is a lot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ilar arguments apply beyond MT to much of NLP and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B68-FD06-47C8-B9E9-62E744ADD0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167-823E-45AD-A724-ADE2E98086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rational reconstruction emphasizing empiricism &amp;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TMI-1992: How to Cook a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MI-1992 Debate: Rationalism v. Empiri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brid/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y’s Work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od Apps for Crummy 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happened to the IBM-Approach to M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human translators (Translation Tools: Tr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automatic apps (CL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a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val of Empiricism: A Personal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BM-approach to MT was always controvers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there are lots of less controversial spin-off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ls, lexicography apps, word sense, machin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(AMTA-2012): Bait and Switch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t: Use Public Internet to develop and test and socialize new ways of extrac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: Apply learnings to larger and more valuable private linguistic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izing: translation business is too small for fortune-500 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 lasting contribution of IBM-Approach: academic (machine lear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T Strategy: work on MT because it is fun, but apply learnings elsewhere to pay the b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230A-FB26-4474-B92D-01D0D8DC2B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ok A Demo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MI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ater, theater, th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quality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ment &gt;&gt;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vision &gt;&gt; technical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ty: Many fields have come of age since 19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cience, Artificial Intelligence, Machine Learning, Natural Language, Machine Translation, Empir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/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: demos can be too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 to raise unrealistic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s of empiric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methods: speec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F20-1394-47EB-91FA-03572267BE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go to the video tape!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sson: manage expec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pred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taining in retro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theless, many of these people went on to very successful careers: president of MIT, Microsoft exec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Translation (1950s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example of a demo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barrassment in retro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elephone (late 1980s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re Isabelle pulled a similar demo because it was so 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mitations of the technology were hard to explain to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well understood by research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n’t asking what happened to translating telephones (if an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e (~1990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having trouble setting appropriate 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: Point &amp; Clic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ch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ed to that (if anything)… Has it moved to Microso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y Rooney (~1990): reset expectations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B64-17FE-4836-A45D-10AF19572E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MI-1992 Deba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ationalism v. Empir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organizing systems (IB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do it all (no human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ne Soup (Wil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don’t do nothing (all human intu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/Tools (Kay’s Workben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 Place of Men and Machines in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people for what they are goo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vocabulary and easy gram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chines for that they are goo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terminology, translation memories, re-use of previously translated 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Application of Crummy 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sm: low hanging 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y: do what we can do (with or without s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: do what is worth do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BF7-6F54-4776-9249-CE26882934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10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1:05:17Z</dcterms:created>
  <dc:creator>AT&amp;T Labs Research</dc:creator>
  <dc:description/>
  <dc:language>en-US</dc:language>
  <cp:lastModifiedBy>Kenneth Church</cp:lastModifiedBy>
  <dcterms:modified xsi:type="dcterms:W3CDTF">2002-10-10T12:51:01Z</dcterms:modified>
  <cp:revision>110</cp:revision>
  <dc:subject/>
  <dc:title>Slide 1</dc:title>
</cp:coreProperties>
</file>