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F443-450A-42D2-8B41-11967E7E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E6F-ED52-4537-928F-0080310C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356-D01B-4C75-B5B7-1A2859AD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0EC-2A96-4DC0-8EAB-FCC9E4C0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0F4-6286-430F-AA7E-FBA10281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DE3-D96E-4C56-B2DA-982C993E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644-A61C-4093-BF89-1FBFBEC8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6DC7-8904-4C59-9C57-D8702A88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EAD-682E-4AE9-91B9-0A0758A3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2A9-48BF-4830-AD8E-89BAA7B8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6BE-F5B7-4292-903D-652FEF0F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0C5-D607-4052-A3F2-69586A6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160" y="65527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B8CF-F0B1-472D-873C-FA070CE7CE9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urch@att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ultilingual.com/FMPro?-db=back%20issues&amp;-lay=CGI&amp;-token=now&amp;-format=ourPublication/currentIssue.htm&amp;-sortfield=Magazine&amp;-sortorder=descending&amp;-max=1&amp;-fin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D:/TTS.mov" TargetMode="External"/><Relationship Id="rId2" Type="http://schemas.openxmlformats.org/officeDocument/2006/relationships/hyperlink" Target="file:///D:/NetTalk.mov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lsnet.org/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labs1.google.com/sets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google.com/search?hl=en&amp;q=Cat" TargetMode="External"/><Relationship Id="rId2" Type="http://schemas.openxmlformats.org/officeDocument/2006/relationships/hyperlink" Target="http://www.google.com/search?hl=en&amp;q=more" TargetMode="External"/><Relationship Id="rId3" Type="http://schemas.openxmlformats.org/officeDocument/2006/relationships/hyperlink" Target="http://www.google.com/search?hl=en&amp;q=England" TargetMode="External"/><Relationship Id="rId4" Type="http://schemas.openxmlformats.org/officeDocument/2006/relationships/hyperlink" Target="http://www.google.com/search?hl=en&amp;q=Japan" TargetMode="External"/><Relationship Id="rId5" Type="http://schemas.openxmlformats.org/officeDocument/2006/relationships/hyperlink" Target="http://www.google.com/search?hl=en&amp;q=Dog" TargetMode="External"/><Relationship Id="rId6" Type="http://schemas.openxmlformats.org/officeDocument/2006/relationships/hyperlink" Target="http://www.google.com/search?hl=en&amp;q=cat" TargetMode="External"/><Relationship Id="rId7" Type="http://schemas.openxmlformats.org/officeDocument/2006/relationships/hyperlink" Target="http://www.google.com/search?hl=en&amp;q=France" TargetMode="External"/><Relationship Id="rId8" Type="http://schemas.openxmlformats.org/officeDocument/2006/relationships/hyperlink" Target="http://www.google.com/search?hl=en&amp;q=China" TargetMode="External"/><Relationship Id="rId9" Type="http://schemas.openxmlformats.org/officeDocument/2006/relationships/hyperlink" Target="http://www.google.com/search?hl=en&amp;q=Horse" TargetMode="External"/><Relationship Id="rId10" Type="http://schemas.openxmlformats.org/officeDocument/2006/relationships/hyperlink" Target="http://www.google.com/search?hl=en&amp;q=ls" TargetMode="External"/><Relationship Id="rId11" Type="http://schemas.openxmlformats.org/officeDocument/2006/relationships/hyperlink" Target="http://www.google.com/search?hl=en&amp;q=Germany" TargetMode="External"/><Relationship Id="rId12" Type="http://schemas.openxmlformats.org/officeDocument/2006/relationships/hyperlink" Target="http://www.google.com/search?hl=en&amp;q=India" TargetMode="External"/><Relationship Id="rId13" Type="http://schemas.openxmlformats.org/officeDocument/2006/relationships/hyperlink" Target="http://www.google.com/search?hl=en&amp;q=Fish" TargetMode="External"/><Relationship Id="rId14" Type="http://schemas.openxmlformats.org/officeDocument/2006/relationships/hyperlink" Target="http://www.google.com/search?hl=en&amp;q=rm" TargetMode="External"/><Relationship Id="rId15" Type="http://schemas.openxmlformats.org/officeDocument/2006/relationships/hyperlink" Target="http://www.google.com/search?hl=en&amp;q=Italy" TargetMode="External"/><Relationship Id="rId16" Type="http://schemas.openxmlformats.org/officeDocument/2006/relationships/hyperlink" Target="http://www.google.com/search?hl=en&amp;q=Indonesia" TargetMode="External"/><Relationship Id="rId17" Type="http://schemas.openxmlformats.org/officeDocument/2006/relationships/hyperlink" Target="http://www.google.com/search?hl=en&amp;q=Bird" TargetMode="External"/><Relationship Id="rId18" Type="http://schemas.openxmlformats.org/officeDocument/2006/relationships/hyperlink" Target="http://www.google.com/search?hl=en&amp;q=mv" TargetMode="External"/><Relationship Id="rId19" Type="http://schemas.openxmlformats.org/officeDocument/2006/relationships/hyperlink" Target="http://www.google.com/search?hl=en&amp;q=Ireland" TargetMode="External"/><Relationship Id="rId20" Type="http://schemas.openxmlformats.org/officeDocument/2006/relationships/hyperlink" Target="http://www.google.com/search?hl=en&amp;q=Malaysia" TargetMode="External"/><Relationship Id="rId21" Type="http://schemas.openxmlformats.org/officeDocument/2006/relationships/hyperlink" Target="http://www.google.com/search?hl=en&amp;q=Rabbit" TargetMode="External"/><Relationship Id="rId22" Type="http://schemas.openxmlformats.org/officeDocument/2006/relationships/hyperlink" Target="http://www.google.com/search?hl=en&amp;q=cd" TargetMode="External"/><Relationship Id="rId23" Type="http://schemas.openxmlformats.org/officeDocument/2006/relationships/hyperlink" Target="http://www.google.com/search?hl=en&amp;q=Spain" TargetMode="External"/><Relationship Id="rId24" Type="http://schemas.openxmlformats.org/officeDocument/2006/relationships/hyperlink" Target="http://www.google.com/search?hl=en&amp;q=Korea" TargetMode="External"/><Relationship Id="rId25" Type="http://schemas.openxmlformats.org/officeDocument/2006/relationships/hyperlink" Target="http://www.google.com/search?hl=en&amp;q=Cattle" TargetMode="External"/><Relationship Id="rId26" Type="http://schemas.openxmlformats.org/officeDocument/2006/relationships/hyperlink" Target="http://www.google.com/search?hl=en&amp;q=cp" TargetMode="External"/><Relationship Id="rId27" Type="http://schemas.openxmlformats.org/officeDocument/2006/relationships/hyperlink" Target="http://www.google.com/search?hl=en&amp;q=Scotland" TargetMode="External"/><Relationship Id="rId2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lexisnexis.com/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D:/MT1950.mov" TargetMode="External"/><Relationship Id="rId2" Type="http://schemas.openxmlformats.org/officeDocument/2006/relationships/hyperlink" Target="file:///D:/RWS.mov" TargetMode="External"/><Relationship Id="rId3" Type="http://schemas.openxmlformats.org/officeDocument/2006/relationships/hyperlink" Target="file:///D:/Apple.mov" TargetMode="External"/><Relationship Id="rId4" Type="http://schemas.openxmlformats.org/officeDocument/2006/relationships/hyperlink" Target="file:///D:/IVR.mov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piricism from TMI-1992 to AMTA-2002 to AMTA-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IBM Models 1-5 fail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all the world’s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th W.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Labs-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urch@at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ne Soup Debat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d-1990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-style MT is obnox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all been done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ne soup: they’ve been adding intuition to thei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n’t work (Systran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ran is also better than Pang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n’t about empiricism, evalu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tin Kay’s advice about deb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msky used this argument against Shan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part of speech case, the ceiling was broken with s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data (lots of Canadian Hansards, but not much e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don’t hear this argument so much any mor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: Hybrid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705-F33F-4723-ACA9-46C930DB86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 lin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ybrid/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rick will get the las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rom his abstract, it looks like he’s going to tell us that I was right all a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just in case he does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e say it now: I told you s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5E0-2651-4B6A-8FFA-EBF5646618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ational reconstruction emphasizing empiricism &amp;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MI-1992: How to Cook a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I-1992 Debate: Rationalism v. Empiri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brid/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’s 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ed to the IBM-Approach to M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human translators (Translation Tools: T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automatic apps (CL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a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val of Empiricism: A Personal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BM-approach to MT was always controvers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there are lots of less controversial spin-of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 lexicography apps, word sense, machin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(AMTA-2012): Bait and Switch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t: Use Public Internet to develop and test and socialize new ways of extrac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: Apply learnings to larger and more valuable private linguistic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izing: translation business is too small for fortune-5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 lasting contribution of IBM-Approach: academic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 Strategy: work on MT because it is fun, but apply learnings elsewhere to pay the b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2F0-7230-435D-BC77-B9252331C4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y’s Workstation (1980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Place of Men and Machines in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lator’s [workstation] will not run before it can w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be called on only for that for which its masters have learned to tru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not require constant infusions of n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ices that only expensive vendors can su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framework that will gracefully accommodate the future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linguistics and computer science are able to m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y it will be built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very modesty assures its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o be hoped that it will be built with taste by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understand languages and computers well enough to know how little it is that they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8FD-AA87-4BC2-8433-CF49116400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WARC: Canadian Workplace Automation Research Center (198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 to the Termium terminology database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Rite (a diff t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Search (a concordance t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ury/Termex (termi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omm (remote access to data banks via telephone mod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e Memoire (French verb infle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Bridge (tool for converting word processing files from one commercial format into an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AC4-3619-4999-A014-CD05D68D15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set reasonable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make sense econo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be attractive to the intende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exploit the strengths of th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ot compete with the strengths of the 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be clear to the users what the system can and cannot do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encourage the field to move forward toward a sensible long-term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2B7-9D99-4450-B249-AB4BB334AC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: MultiLingual 13:6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rade Magazine for Transl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458200" cy="5075280"/>
        </p:xfrm>
        <a:graphic>
          <a:graphicData uri="http://schemas.openxmlformats.org/drawingml/2006/table">
            <a:tbl>
              <a:tblPr/>
              <a:tblGrid>
                <a:gridCol w="890640"/>
                <a:gridCol w="4356000"/>
                <a:gridCol w="1123920"/>
                <a:gridCol w="1000080"/>
                <a:gridCol w="108756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 of Art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Organ-i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 S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s: Reverso Pro 5, Reverso Exp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 offer useful new 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Remote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Management: Systems for Managing Content Transform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ng Tools Used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Loc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With Machine Trans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ng Translation Tools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Creation (CMU → Déjà V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ok At Two Web Translation Port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ng Global With Lingo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6680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62C-104F-45ED-90D4-5EDF7ABBBE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4724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Lingual 13:6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Positive on Too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9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Remote Memory (p. 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of translation memory, workflow &amp; distributed work centers (work at ho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ore’s Law: large revenue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tter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on to your seats, translators and agencies, our industry is about to change again…  Forecast shakeup: extrem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Tools Used in Software Localization (p. 31): A Consumer Reports-lik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upposition: tools are ready for wide-spread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ly, I am told that there are people out there for whom price does matter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A Conference (~1990): the translator and the MT sale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9040" t="11787" r="21727" b="2351"/>
          <a:stretch/>
        </p:blipFill>
        <p:spPr>
          <a:xfrm>
            <a:off x="5105520" y="0"/>
            <a:ext cx="4038480" cy="56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FF5-98A2-42A9-A6E8-6E995B0B78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Lingual 13:6 is mostly positive on technology, b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Machine Translation (p. 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the formatting of the source text is extremely simple, the machine translation output requires a lot of painstaking post-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m reality: mark-up is more valuable tha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erdict is unani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lators, who have gained a lot of experience of EU topics, prefer to work without Sy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ok at Two Web Translation Portals (p. 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first I thought it was a machine translation site..., but soon discovered that it was not one of those “free translation”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00600" y="1630440"/>
            <a:ext cx="4038480" cy="212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44880" y="3938760"/>
            <a:ext cx="3948120" cy="218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033160" y="6324480"/>
            <a:ext cx="1706400" cy="398880"/>
          </a:xfrm>
          <a:prstGeom prst="wedgeRectCallout">
            <a:avLst>
              <a:gd name="adj1" fmla="val 18592"/>
              <a:gd name="adj2" fmla="val -88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0.25/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4DF-F7E1-49FB-9014-E20AA9D0CA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chine Translation + Post-Editing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History of Mixed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usson-Murray (1985, p. 180): Although you can expect to at lea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ranslator’s output, the real cost-saving in MT likes in complete electronic transfer of information and the integration into a fully electronic publish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son (1984, p. 6): Substantial rises in translations output, by as much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5 per 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ne case, are being reported by users of the Logos machine translation (MT) system after only a few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chira (1985): For one type of text (data description manuals), we observed an increase in throughput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 per 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716-2DAA-4D6E-BFC2-AB0BD32655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ers asked 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's changed since TMI-92 (if anything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MI-92: great excitement over the use of aligned parallel corpora to help human translators (translation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, much controversy over IBM Models 1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 what's happened since 199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iricism has come of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books: Charniak, Jelinek, Manning &amp; Schultze, Jurafsky &amp; Mar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book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urses in many universities around th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used to be considered radical is now accept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is practically required for 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er’s fighting words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ore data is better da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n’t as shocking when Brill makes the case a decade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ew field of Machine Learning has absorbed many good (and formally controversial) ideas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BM Models 1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rowsky's Word Sense Disambig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w out of Machine Transl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is now widely cited in Machine Learning as an early example of co-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71B-3B01-414B-9B7B-34C94F0A81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risingly, automation (MT + Post-editing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more expensive than manual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klovitch (1991, p. 3): The HT production chain was significantly faster than the MT production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 (1980): Proper Place of Men and Machines in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AC (1966, p. 19): The postedited translation took slightly longer to do and was more expensive than conventional human translation…  Dr. J. C. R. Licklider of IBM and Dr. Paul Garvin of Bunker-Ramo said they would not advise their companies to establish such a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bility g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so little consistency?  200%?  75%?  30%?  0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haven’t these products done better in the marketpl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ols argument (terminology and translation memories) works better with translators than post-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ors may be bi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y have considerable expertise (and 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on will be easier if they believe i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19C-1414-47F4-B9B1-4F828B9637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ational reconstruction emphasizing empiricism &amp;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MI-1992: How to Cook a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I-1992 Debate: Rationalism v. Empiri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brid/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’s 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ed to the IBM-Approach to M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human translators (Translation Tools: T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automatic apps (CL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a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val of Empiricism: A Personal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BM-approach to MT was always controvers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there are lots of less controversial spin-of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 lexicography apps, word sense, machin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(AMTA-2012): Bait and Switch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t: Use Public Internet to develop and test and socialize new ways of extrac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: Apply learnings to larger and more valuable private linguistic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izing: translation business is too small for fortune-5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 lasting contribution of IBM-Approach: academic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 Strategy: work on MT because it is fun, but apply learnings elsewhere to pay the b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C14-B521-40DB-B2F0-49460D779AF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has happened to the IBM-Approach to Machine Transl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human translators (MultiLingual 13: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rmi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ranslators don’t need help with the easy vocabulary and the easy 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nslation Mem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ranslators are often asked to translate the same material again and again (e.g., revisions of manu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aut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R: cross-language information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ng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Learning: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st important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us-based Lexicography: spreading into lots of other fields including politics (Nunbe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0E0-BBF7-4F58-A4D5-7E4E7B4C6D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Political Labels in Major Newspap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ffrey Nunber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ary broadcast on "Fresh Air," March 19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447920"/>
          <a:ext cx="8229600" cy="5213160"/>
        </p:xfrm>
        <a:graphic>
          <a:graphicData uri="http://schemas.openxmlformats.org/drawingml/2006/table">
            <a:tbl>
              <a:tblPr/>
              <a:tblGrid>
                <a:gridCol w="1424160"/>
                <a:gridCol w="1623960"/>
                <a:gridCol w="1523880"/>
                <a:gridCol w="2097000"/>
                <a:gridCol w="156060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nstances in newspapers data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t within 7 words of relevant lab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nstances in "liberal" pa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t. within 7 words of label in "liberal" pa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b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l Wellst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ney F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m Hark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d Kenne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bara Box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erv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sse Hel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m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hn Ashcr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ck Arm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t Lo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3B5B-00BA-45E2-9D3F-5407AC8EABE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prisingly, liberals are more likely to be labeled as such than conser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act, I [Nunberg] did find a big disparity in the way the press labels liberals and conservativ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in the direction that Goldberg clai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contrary: the average liberal legislator has a 30%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e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lihoods of being identified with a partisan label than the average conservative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s desc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ney Frank as a liberal 2.5 times as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t describes Dick Armey as a conserv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s Barbara Boxer a partisan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twice as often as it gives one to Trent Lo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hile it isn't surprising that the press applies the lab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Jesse Helms more often than to any other Republican in the gro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scribes Paul Wellstone as a lib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% more frequently than th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8B4-6FC8-4F2D-838B-07D5B093B8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0s Revival of Empir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icism was at its peak in the 195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ting a broad set of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ing from psychology (behaviori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lectrical engineering (information the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time, it was common practice in linguistics to classify words not only by meaning but also by collocations (word associ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th: “You shall know a word by the company it keep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ocations: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rong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t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.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comp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 Associations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t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ttably, interest in empiricism f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Chomsky’s criticism of ngrams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yntactic Structu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95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Minsky and Papert’s criticism of neural networks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erceptr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96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massive amounts of data (even before the we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data is better dat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 &gt;&gt; Quality (bal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matic foc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can we do with all this da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to do something than nothing a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ical methods (and focus on evaluation): Speec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8B3-FEB8-49C8-AB4D-1D30D2BEA0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nnon’s: Noisy Channe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G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|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RG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|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320" y="2514600"/>
          <a:ext cx="4038480" cy="4052880"/>
        </p:xfrm>
        <a:graphic>
          <a:graphicData uri="http://schemas.openxmlformats.org/drawingml/2006/table">
            <a:tbl>
              <a:tblPr/>
              <a:tblGrid>
                <a:gridCol w="990360"/>
                <a:gridCol w="685800"/>
                <a:gridCol w="2362320"/>
              </a:tblGrid>
              <a:tr h="3373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likely alterna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is One Two A Three Please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will the would also 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know do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is One Two A Three Please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is One Two A Three Please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question first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 point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191120" y="2514600"/>
          <a:ext cx="4800600" cy="3321000"/>
        </p:xfrm>
        <a:graphic>
          <a:graphicData uri="http://schemas.openxmlformats.org/drawingml/2006/table">
            <a:tbl>
              <a:tblPr/>
              <a:tblGrid>
                <a:gridCol w="2168280"/>
                <a:gridCol w="1316160"/>
                <a:gridCol w="1316160"/>
              </a:tblGrid>
              <a:tr h="11430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ch Recogn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R (Optical Character Recogni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Corr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6934320" y="1295280"/>
            <a:ext cx="1143000" cy="580680"/>
          </a:xfrm>
          <a:prstGeom prst="wedgeRectCallout">
            <a:avLst>
              <a:gd name="adj1" fmla="val -47925"/>
              <a:gd name="adj2" fmla="val 80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295280"/>
            <a:ext cx="1219320" cy="580680"/>
          </a:xfrm>
          <a:prstGeom prst="wedgeRectCallout">
            <a:avLst>
              <a:gd name="adj1" fmla="val 40731"/>
              <a:gd name="adj2" fmla="val 891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D96-DBB0-4A70-A3D6-A69A4EA4EA5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(Abusing) Shannon’s Noisy Channel Model: Part of Speech Tagging and Machine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ou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lling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nded Tex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y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Speech Tagging (POS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Trans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glis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7C3-2C4B-434B-8F14-DFC17783B4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al 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RG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Model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ram model (borrowed from speech rec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Model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aligned parallel corp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1-5: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er &amp; Church (Computational Linguistics,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MT may fail for reasons advanced by Chom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rdless of its ultimate success or failu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growing community of researchers in corpus-based linguistics who believe it will produce valuable lexic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ingual concord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testing material for word sense disambig (sense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E28-D1F6-4797-B01F-F32261F9F4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Sense Disambig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Acquisition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-Hillel (19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systems don’t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-tagged text: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ex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= sense-tagge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 (judicial sense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 (syntactic sense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rowsky: bilingu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oling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ense per dis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Learning: early example of co-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BE1-733B-4E88-925B-9FC80880C8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s the pendulum swung too f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ppened since TMI-1992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ny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80-2000: Revival of Empiric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e empirical methods become too pop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uch happened since TMI-199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orry that the pendulum has swung so far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are no longer training students for th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t the pendulum might swing the other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ought to be preparing students with a broad education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stics and Machin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well as Linguistic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C25-10A9-48B1-B1B0-19A21A2D58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-152280"/>
          <a:ext cx="8229600" cy="6705000"/>
        </p:xfrm>
        <a:graphic>
          <a:graphicData uri="http://schemas.openxmlformats.org/drawingml/2006/table">
            <a:tbl>
              <a:tblPr/>
              <a:tblGrid>
                <a:gridCol w="2057400"/>
                <a:gridCol w="2797200"/>
                <a:gridCol w="3375000"/>
              </a:tblGrid>
              <a:tr h="86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iric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-known advoc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msky, Mins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nnon, Skinner, Firth, Har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e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sy Channel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s of Inte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rase-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nd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ize Prediction Error (Entrop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e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guistic General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ment &amp; Wh-mo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ocations &amp; Word Associ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sing 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le-Based, CKY (Chart), ATNs, Un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-Backward (HMMs), Inside-outside (PCFG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st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n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did what to wh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sy Channel Appl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D94-043A-40B0-8F44-131F4A3E30E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val of Empiricism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ers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MIT, I was solidly opposed to empiric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that changed soon after moving to AT&amp;T Bell Labs (198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-to-Sound Rules (speech synthe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: Letter stat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tymology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nunciation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Talk: Neural Net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: great theate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nrealistic expect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f-organizing systems v. empiric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 Learning v. Corpus-based Lingu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did it, I did it, I did it, but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Speech Tagging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Associations (Ha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info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llocations &amp; word assoc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ocations: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rong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te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.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d Association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t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-Turing Smoothing (G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ing Parallel Corpora (inspired by 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Sense Disambig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ingual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noling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IBM’s approach fails for M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sting benefit (tools, linguistic resources, academic contributions to machine lear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ACF-80FC-4074-99ED-19BFD14E347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ational reconstruction emphasizing empiricism &amp;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MI-1992: How to Cook a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I-1992 Debate: Rationalism v. Empiri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brid/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’s 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ed to the IBM-Approach to M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human translators (Translation Tools: T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automatic apps (CL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a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val of Empiricism: A Personal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BM-approach to MT was always controvers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there are lots of less controversial spin-of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 lexicography apps, word sense, machin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(AMTA-2012): Bait and Switch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t: Use Public Internet to develop and test and socialize new ways of extrac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: Apply learnings to larger and more valuable private linguistic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izing: translation business is too small for fortune-5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 lasting contribution of IBM-Approach: academic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 Strategy: work on MT because it is fun, but apply learnings elsewhere to pay the b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11E-C719-4342-8453-68EC2171E4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 is Important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elsne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field is doing better and bett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used to be hard to prepare a talk for a CL aud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ause there was almost nothing that you could assume everyone kne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field will really have arrived when a course in speech and language processing is a normal part of every undergraduate and graduate Computer Science, Electronic Engineering, and Linguistics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we're a long way from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things are improv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w have several textbooks: Manning &amp; Schutze, Jurafsky and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quick search of the web: textbooks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urses (around the wor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were, of course, many other obsta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at limited the size of the fie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used to be hard to join in on th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cause only a few large industrial labs could afford to collec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nks to data collection efforts such as LDC and ELSNET and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is no longer the problem it used to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course, you can never have too much of a good th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ols also used to be a problem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FA9-50F2-4008-AE66-ACBA4FDA0C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from Theoretical 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lways, though,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ould do to promote ou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from Theoret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r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ory has paid more attention to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have also worked hard 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research.att.com/~dsj/nsflis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heory community regularly exchange lists of open problems along with difficulty ra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ents know before they solve a problem whether it is worth a conference paper or a superstar a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2FB-35B7-4681-BD64-62CBE043CD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: not urgent, but 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orgs (.edu, .com, .gov) work hard 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nty of examples on the we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nsf.gov/pubs/2001/nsf0104/strategy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darpa.mil/body/mission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g.lcs.mit.edu/doyle/publications/sdcr96.pd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gridforum.org/L_About/about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 to say why strategy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 have noticed, at least within AT&amp;T, that groups that work hard on strategy have grown and prospered over th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y is never as urgent as the next conference paper deadline, but it is probably mo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E00-6D91-4EED-A59B-04CDC5F569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 documents have impact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ven if it appears that they are being igno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may or may not follow their own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ussion that produces the strategy document is extremely valuable, neverthele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more so that anything that happens after doc is fi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 panels offer a forum for people to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look at the field from a broader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theory community has observed that even after the people involved in the original discussion have long since forgotten the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 continue to live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roaden the best and most aggressive students for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606-8094-407B-98EB-B1A71AFAB1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 Discussions in Our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 few discussions of strategy within our fi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lsnet.org/about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dc.upenn.edu/ldc/about/ldc_intro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-nlpir.nist.gov/projects/duc/papers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EC workshops (to order proceedings, see www.lrec-conf.or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C link developed a decade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ly responsible for the success of L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ore groups in our field put the same kind of energy into strateg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would be more success stories like the L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lightful "near miss" is Martin Kay's reflections on ICCL and C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direction for the format of Coling conferences in a “classic” Martin-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convince Martin to write a doc in the same delightful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direction for the field rather than atmosphere for C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B89-6DD6-4138-8758-1A8D4692CE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it and Switch Strategy</a:t>
            </a: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lsnet.org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it: public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, sexy, available, rich hypertex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: as large as the web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larger &amp; more valuable private repos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Intranets &amp; telephon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it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cares about data that everyone can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as Groucho Marx doesn’t want to be in a club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 Use the public Intranet to develop, test and socialize new ways to extract value from large linguistic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to society: Apply solutions to private repos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C4A-280A-43A3-9FE1-28232066413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 Cente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lligence Bonan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0"/>
            <a:ext cx="3836880" cy="6858000"/>
            <a:chOff x="0" y="0"/>
            <a:chExt cx="3836880" cy="68580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rcRect l="0" t="0" r="37737" b="666"/>
            <a:stretch/>
          </p:blipFill>
          <p:spPr>
            <a:xfrm>
              <a:off x="0" y="0"/>
              <a:ext cx="3836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 txBox="1"/>
            <p:nvPr/>
          </p:nvSpPr>
          <p:spPr>
            <a:xfrm>
              <a:off x="0" y="0"/>
              <a:ext cx="383688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panies are collecting information with technology designed to monitor incoming calls for service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summer, Continental Airlines Inc. installed software from Witness Systems Inc. to monitor the 5,200 agents in its four reservation cen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Houston airline quickly realized that the system, which records customer phone calls and information on the responding agent's computer screen, also w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intelligence bonan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ays André Harris, reservations training and quality-assurance dire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9DD-A3D6-45DD-B0B3-775D77E055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iricism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ademia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mercial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iricism has not only come of age in academic venues (e.g., conferences, textboo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also in commercial 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ion tools (e.g., alignm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mercial practice (Tr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Applications for Crummy 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 better ap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R (cross-language information retrie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T in web search engines (Systran &amp; AltaV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119-9D60-4C44-A6DA-5CDA0B97B2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it: Use Web to establis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data is bet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cking at TMI-92 (Mercer), but less so a decade later (Br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NLP-02 best paper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ing the Web to Overcome Data Spars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ger corpora (Google) &gt;&gt; smaller corpora (British National Corpus) for predicting psycholinguistic judg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ggested in the conclusions that web counts better than standard smoothing techniques (back-off) for language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lly exciting!  Performance on a broad range of computational linguistics tasks will improve as we collect more and mor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ising tide of data will lift all boa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ll (AskMSR Question Answering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e can do remarkably well in TREC question answering competitions by using a search engine like Google and very little 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vig (ACL-02 invited talk): di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is also very good at finding collocations/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abs1.google.com/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 &amp; dog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 &amp; mor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nix command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 used to try to do similar things a decade ago, but the results where not as good, probably because we were working with relatively tiny corpora in the sub-billion-word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commands and many other subjects (esp taboo subjects) are over-represented on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 v. quality/corpus size v.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collecting more data better than smooth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F6C-8773-4F94-BF25-ECCAAF9D8F3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Answering &amp;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1201680"/>
            <a:ext cx="7543800" cy="565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B21-4167-45A8-A4FB-8D2F9BCB43C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labs1.google.com/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5011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Eng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D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Ho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Ger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F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Ita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Indone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B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m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/>
                        </a:rPr>
                        <a:t>Malay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/>
                        </a:rPr>
                        <a:t>Rab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/>
                        </a:rPr>
                        <a:t>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/>
                        </a:rPr>
                        <a:t>Sp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/>
                        </a:rPr>
                        <a:t>Ko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/>
                        </a:rPr>
                        <a:t>C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/>
                        </a:rPr>
                        <a:t>c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/>
                        </a:rPr>
                        <a:t>Sco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Taiw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R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mkd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Thai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Livest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Singap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t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Aust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Austr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pw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Austr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Banglade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676-62C2-4689-8621-E8928D89976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Lar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newed Exc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, rich hypertext structure &amp; publicly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 = 1000 * B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gle: 100 Billio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tish National Corpus (BNC): 100 Millio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ften said that the web is the largest repository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copyright laws could unlock vast quantities of data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lexisnexi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Intranets and telephone networks &gt;&gt; Public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C (trends.html): 200 million telephones in USA (1 line/per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: 1 hour/day/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e 1 sec ≈ 1 word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0 Google collections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, Intranets (data) ≈ telephones (vo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ata is growing faster than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ttedly, much of the data on Intranets cannot be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much of the speech on the telephone networks cannot be recor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attitudes are chan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used to be considered rude to have a telephone answering 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it is considered rude not to have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answering machines and call centers, perhaps 10% can be recor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AF2-38FC-4363-98FE-6A1CCE67D53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past, recording all this data would have been prohibitivel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Moore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costs have been falling faster than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ill continue to do so for so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t current prices, transport &gt;&gt;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distance telephone calls: $0.05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space: $0.005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am willing to pay for a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ight as well keep the speech online for a lo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comments hold for data (web p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am willing to pay to fetch a web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might as well cache it for a lo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flush a page if there is any chance that it might be requested aga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cach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aw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find the pages that I might ask for and keep them for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is cheap (compared to 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E9A9-E70B-4DD2-9901-C657A888440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it and Switch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up the good wor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considerable interest in eval on cor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more interest in how well methods port to new cor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rest in how performance scales wit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fully corpus size he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f course, all the data in the world will not solve all the world’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understand when more data will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hen it is better to do something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val of lingu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430-2A27-4B0C-9534-7655C927939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Bait and Switch Recommend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s in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traditional data collection efforts focused on publicly available linguistic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ut to think about private repositories,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: Huge impact on size of private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making it more convenient to capture private data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monstrating that there is value in doing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most of us do not keep voice mail for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ugh I have been using Scanmail to copy voice mail to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like many people, I keep a lot of email online for a lo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tools for searching email and other private repositories are not as good as the tools for searching public repositories (Goog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C2C-12F5-451F-93C2-C7D0767077B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ational reconstruction emphasizing empiricism &amp;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MI-1992: How to Cook a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I-1992 Debate: Rationalism v. Empiri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brid/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’s 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ed to the IBM-Approach to M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human translators (Translation Tools: T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automatic apps (CL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a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val of Empiricism: A Personal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BM-approach to MT was always controvers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there are lots of less controversial spin-of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 lexicography apps, word sense, machin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(AMTA-2012): Bait and Switch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t: Use Public Internet to develop and test and socialize new ways of extrac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: Apply learnings to larger and more valuable private linguistic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izing: translation business is too small for fortune-5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 lasting contribution of IBM-Approach: academic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 Strategy: work on MT because it is fun, but apply learnings elsewhere to pay the b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577-DA0B-447F-A76A-61EBBCD4349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Opportunities for Tran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M (with Rau): Commercial Opportunities for NL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ount garage outfits funded by gra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-500 perspective: min of $10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two application ar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 Processing (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Retrieval (Lexis-Nexis/W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not identif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is translation market?  Huge estim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+ Billion (Eurola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ble to AT&amp;T’s revenues for consum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cos are a major employer (unlike trans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s of Mark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-only (ASCII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rs of English Spe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olingual (ISO/Unic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rs of speakers who share a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ingual (trans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rs of spe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029200"/>
            <a:ext cx="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87692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4419720"/>
            <a:ext cx="32767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lin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24280"/>
            <a:ext cx="266724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lin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535-423B-4791-8C4D-A9444920F1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ly Little Demand for Multi-lingual Applications: Translation &amp;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&amp;T Language Line Les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prisingly, monolingual market &gt;&gt; multi-lingual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s of demand for telephone service where both parties speak the same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thought there would be even more demand for a translating tele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ause there are more pairs of people who don’t share a common language than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people don’t talk (much) to people they don’t kn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&amp;T Language Line Serv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ch to speech interpretation over the phone (low tech except conf calling/work-at-ho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 a traditional writing to writing translatio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retation market: focused on emergencies: police, hospital (too small for AT&amp;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 market: focus on technical manuals (also, too small for AT&amp;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prise: interpretation market ≠ translation market; demand for language 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pretation (speech to speech): depends on number of domestic spea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(writing to writing): depends on world-wide G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nam: Bowling Alon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ridging and B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opportunities for transl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up is more valuable than trans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top publishing is a bette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: Adobe &gt;&gt; T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487692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419720"/>
            <a:ext cx="32767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lin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4724280"/>
            <a:ext cx="266724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lin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4648320"/>
            <a:ext cx="28195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324480" y="4648320"/>
            <a:ext cx="28195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5562720"/>
            <a:ext cx="85104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7A6-B0A1-40D5-B902-61187C108C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, what do I expect to happen over the next dec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cale, stu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a lot of excitement about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only large and growing and se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also contains a rich structure of hypertext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propose a bait and switch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it: public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: the real target is something larger and more 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more e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Good Apps for Crummy N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nd more time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e can do with what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not spend all our resources on the core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a lot to a killer ap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at technology helps, but there is a lot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 arguments apply beyond MT to much of NLP and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8AE-05E5-4B83-9523-20E6D58B37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ational reconstruction emphasizing empiricism &amp;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MI-1992: How to Cook a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I-1992 Debate: Rationalism v. Empiri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brid/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’s 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ed to the IBM-Approach to M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human translators (Translation Tools: T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automatic apps (CL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a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val of Empiricism: A Personal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BM-approach to MT was always controvers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there are lots of less controversial spin-of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 lexicography apps, word sense, machin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(AMTA-2012): Bait and Switch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t: Use Public Internet to develop and test and socialize new ways of extrac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: Apply learnings to larger and more valuable private linguistic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izing: translation business is too small for fortune-5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 lasting contribution of IBM-Approach: academic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 Strategy: work on MT because it is fun, but apply learnings elsewhere to pay the b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BA9-0A20-416C-8E45-412312A3BB0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ational reconstruction emphasizing empiricism &amp;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MI-1992: How to Cook a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I-1992 Debate: Rationalism v. Empiri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brid/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’s 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ed to the IBM-Approach to M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human translators (Translation Tools: T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automatic apps (CL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a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val of Empiricism: A Personal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BM-approach to MT was always controvers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there are lots of less controversial spin-of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 lexicography apps, word sense, machin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(AMTA-2012): Bait and Switch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t: Use Public Internet to develop and test and socialize new ways of extrac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: Apply learnings to larger and more valuable private linguistic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izing: translation business is too small for fortune-5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 lasting contribution of IBM-Approach: academic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 Strategy: work on MT because it is fun, but apply learnings elsewhere to pay the b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B82-7357-4EBD-AAA4-033F10E635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ok A Demo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MI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fu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d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ater, theater, t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quality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tainment &gt;&gt;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vision &gt;&gt; technical corre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rity: Many fields have come of age since 19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cience, Artificial Intelligence, Machine Learning, Natural Language, Machine Translation, Empir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/Catastro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ning: demos can be too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 to raise unrealistic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s of empiri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ical methods: speec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AE8-3F81-41A2-9300-1FA9F54ABB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go to the video tape!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sson: manage expec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taining in retro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theless, many of these people went on to very successful careers: president of MIT, Microsoft exec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Translation (1950s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example of a dem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barrassment in retro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ng telephone (late 1980s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erre Isabelle pulled a similar demo because it was so 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mitations of the technology were hard to explain to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well understood by research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n’t asking what happened to translating telephones (if anyth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e (~1990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having trouble setting appropriate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y: Point &amp; Clic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ech 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ed to that (if anything)… Has it moved to Microso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y Rooney (~1990): reset expectations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4F55-EFD8-4951-9995-0A1A3A41AC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MI-1992 Deba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ationalism v. Empiric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organizing systems (IB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do it all (no human intu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ne Soup (Wil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don’t do nothing (all human intu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/Tools (Kay’s Workben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 Place of Men and Machines in 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people for what they are goo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vocabulary and easy gram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machines for that they are goo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terminology, translation memories, re-use of previously translated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Application of Crummy 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matism: low hanging 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: do what we can do (with or without s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: do what is worth do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1EA-DCF8-4EBF-977C-0167A9EDC5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01:05:17Z</dcterms:created>
  <dc:creator>AT&amp;T Labs Research</dc:creator>
  <dc:description/>
  <dc:language>en-US</dc:language>
  <cp:lastModifiedBy>Kenneth Church</cp:lastModifiedBy>
  <dcterms:modified xsi:type="dcterms:W3CDTF">2002-10-10T12:51:01Z</dcterms:modified>
  <cp:revision>110</cp:revision>
  <dc:subject/>
  <dc:title>Slide 1</dc:title>
</cp:coreProperties>
</file>