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C5F-ECAC-4E64-8E50-BA1896ED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C0D-2FE9-4812-80E3-E0A08143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64B-B074-4651-8A1E-0DB46AEB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D4C-8064-4035-9C38-66407E4E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D2D-6046-4C7A-920C-DDD34DDB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10C-89ED-47C0-8771-20600D39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C0D-31E3-46D4-A32C-6CBD4164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833-53D0-4BC2-B295-3DC2418D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CF9-9E56-4828-848B-969C7ED4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0D4-DD2E-4CCF-9331-AEA4557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DAD-0E34-465F-942D-2D4476A6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BD4-8767-4097-B9F6-997C00BE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8A5A-CE08-4A4F-83E8-8EE8E3863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's Happened Since the First SIGDAT Meet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eth Ward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&amp;T Labs-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wc@research.at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ts of Neat Data on th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net: www.cogsci.princeton.edu/~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uis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ortium (LD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ldc.upen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LEX: www.clres.com/sigl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cour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our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tiative (D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georgetown.edu/luperfoy/Discourse-Treebank/dri-hom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ederalist Pap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mcs.net/~knautzr/f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Neat Data on the Web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in Lots of Languag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e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ling.iis.sinica.edu.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sinica.edu.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ese: cl.aist-nara.ac.jp/lab/resource/resourc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ctronic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ctiona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earch (EDR): www.iijnet.or.jp/ed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vanc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ommunicatio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earch (ATR): www.atr.co.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rdt.monash.edu.au/~jwb/japanes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ean: korterm.kaist.ac.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ope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gua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ourc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ociation (EL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icp.grenet.fr/EL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el Text (Resnik, ACL-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dian Hansards: WWW.Parl.GC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rkish: www.nlp.cs.bilkent.edu.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edish: svenska.gu.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ts of Neat Tools on th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ntools (links to all over the wor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cis.upenn.edu/~adwait/penntool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Speech Taggers (see abo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man/Cha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e.kuee.kyoto-u.ac.jp/nl-resource/juman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.aist-nara.ac.jp/lab/nlt/chasen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x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cm.bell-labs.com/cm/cs/who/doug/ssort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s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: How larg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breadth: Geography,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: Wall Street &amp; Mai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ask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c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c.nist.gov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ster, M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benchmark corpora: Brown, Penn Treebank, Wall Street Journal, Switch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lexical resources: Wordn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cogsci.princeton.edu/~wn/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labeling conventions/standards in all areas of NLP from Speech to Dis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, evaluation,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to get a paper accepted any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1993, it wasn’t like th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ited talks at ACL-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Multimodal Discour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s of Mean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icational Domains and Recursive Contex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sharing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iricism vs. Ration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uses: Clear measurable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Speech Ta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ses: Herd mentality, incrementalism, mindless metrics, duplicated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: empiricism fell out of favor in 1960s when methodology became too burdens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s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: How larg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breadth: Geography,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erc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all Street &amp; Mai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Stree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corpora are now having an impact on ordinary us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arch engines/port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gigabytes, not just a popular book, but something that ordinary users are beginning to take for gra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ge Commercial Succes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ince 199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trieval &amp; Digital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arch engines/portals: highly successful on both Wall Street as well as Main St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ited talks from Lycos (1997) &amp; Infoseek 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Translation &amp;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wherever software is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use a phone without talking to a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SIGDAT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VLC-1 was held just before ACL-9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at turnou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like a conference than a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knew that corpora were “hot,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didn't appreciate just how hot they would turn out to 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s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larg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breadth: Geography,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: Wall Street &amp; Mai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arge is Very Lar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95160" y="1982880"/>
          <a:ext cx="7542360" cy="47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982880"/>
                    <a:ext cx="75423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rror, mirror on the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the largest of them 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s-Nex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had invited talks from all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: Lycos (1997) &amp; Infoseek (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s-Nexis (199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st (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s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: How larg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breadth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eograph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: Wall Street &amp; Mai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DAT-93: Nearly equal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 : 4 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a: 4 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: 3 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growth in activity around the world, especially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DAT has met in a dozen cities (50% in Amer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: Columbus, Cambridge, Philadelphia, Providence, Montreal, College P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a: Kyoto, Beijing, Hong K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: Dublin, Copenhagen, Gre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opics that are Behind the International Expa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hin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slation (MT) /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u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o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tor (IME): MS-IME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phology: Juman, Cha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ss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gua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form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rieval (CL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ing the Internet: integrate IME + CLIR + 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el and comparable corp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ology Extraction &amp; Al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ffix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s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: How larg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breadth: Geography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: Wall Street &amp; Mai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oader (and More Applied) View of Computational Lingu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-mining, Databases, Data Ware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trieval, Categorization,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c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-Mining Issue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ow Large is Very Large?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echnology to corpus-base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uch larger data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swire (AP): 1 million words per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phone calls: 1-10 billion p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 packets: expected to be even la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: Fraud, Marketing, Operations,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knobs that business partners can 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 demand (buy TV ads, reduce pr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 supply (buy network capacity, enhance oper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pportunities for improvement (marketing prosp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 market response in real time (supply/demand by kno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t of SIG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Invited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of N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of Note (in Related Fie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r meetings have also done very well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trie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cm.org/sigi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fox.cs.vt.edu/DL9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s.cmu.edu/Web/Groups/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-mining, Databases, Data Ware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cm.org/sigkd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vldb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t Invited Tal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a SIGDAT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ry Kučera and Nelson Franc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Workshop on Very Large Corpora (199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achusetts Institute of Technology (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ridge, MA,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d their work on the Brown Cor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ime when empiricism was out of fash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peci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&amp; Touch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eived standing ov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of 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Machine Translation / 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n et 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Parsing (In 1993, poor use of lexical inf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linek, Magerman, Charniak, Coll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PP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dle and R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-sense Disambig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rows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-tiling (Discourse Par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of No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 Related Fie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cation and Regression Trees (C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Gigabytes, Harvest, SGM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ffix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Semantic Ind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hing a Wider Aud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Suc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treet &amp; Wall St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equal rep from America, Asia &amp;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opic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trieval, Speech, Machine Translation, Machine Learning, Data-m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-organizing vs. E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organizing: Learning, H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s do i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ks’ Stone Soup: Statistics don’t do 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atory Data Analysis (E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of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for a little controvers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Empiri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Linguistic Insights vs.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ers do what reviewers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, conservative, seek precedents, cas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ers go easy on methodology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im historical remi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: empiricism fell out of favor in 1960s when methodology became too burden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n’t let the methodology get in the way of what we are here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iricism has a long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1950’s, empiricism dominated a broad set of fie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y (behaviori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lectrical engine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formation theor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time, it was common practice in linguistics to classify words not only on the basis of their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also on the basis of their co-occurrence with other wo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``You shall know a word by the company it keeps”  (Firth, 195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ttably, interest in empiricism faded in the 1960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msky's criticism of ngram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tactic Struc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957)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sky and Papert's criticism of neural ne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ceptr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96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90’s Revi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ism regained a dominant pos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rams and Hidden Markov Models (HMMs) became the method of choice in Spe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al Networks (Perceptrons + Hidden Layers) helped create Machine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is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tionalis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iri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cillates about once a car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 Twain: Grandparents and Grandchildren have a natural alli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the Revival?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It was a bad idea then, and it is still a bad idea now”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powerful computers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 of massive quantities of data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is available lik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long ago, the Brown Corpus was considered l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, text is available like never befo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ame collection efforts (www.ldc.upenn.or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ow everyone has access to the Web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 are routinely carried out on gigabytes of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researchers are even working with tera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s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: How larg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breadth: Geography,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: Wall Street &amp; Mai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publish a paper about neat stuff, it is expected that you will post it on th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ll mention just a few examples of neat stuff on th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ts of  Neat Demos on th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arching with Machine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altavista.com(uses Systr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anguage Information Retrieval (CLIR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xrce.xerox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Corpora: www-rali.iro.umontreal.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Semantic Indexing (L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book.bellcore.com/~remde/l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a.colorado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ch Synthesis: www.bell-labs.com/project/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plot: www.cs.unm.edu/~jon/dot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4:46:37Z</dcterms:created>
  <dc:creator>Kenneth W. Church</dc:creator>
  <dc:description/>
  <dc:language>en-US</dc:language>
  <cp:lastModifiedBy>Kenneth W. Church</cp:lastModifiedBy>
  <cp:lastPrinted>1999-06-04T21:55:22Z</cp:lastPrinted>
  <dcterms:modified xsi:type="dcterms:W3CDTF">1999-06-08T18:22:43Z</dcterms:modified>
  <cp:revision>55</cp:revision>
  <dc:subject/>
  <dc:title>No Slide Title</dc:title>
</cp:coreProperties>
</file>